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69C-77C6-4C8F-8F73-A5A1497A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B2A-E000-4AC9-81A3-D31EC88F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061-2230-4B3F-953B-FB287855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7C13-F434-49EB-A6B5-0301F43C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876-2B75-4B72-9C4F-C023BFB9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0C2-DB0D-4428-9B2E-13273153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E778-1875-4A07-9C21-046B29C9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266-C916-49E3-9077-9D444D7E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988-1A87-4BCD-95F4-ECAC91E8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D2C-98B5-4B75-8AEF-AFF2B960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F2D-B53B-44BB-8884-254FF95C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01A-AFEC-4029-940F-404F63D6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06E0-6917-48A4-8E77-464E0E3B2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8900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新しい消費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95280" y="907920"/>
          <a:ext cx="8424720" cy="1822680"/>
        </p:xfrm>
        <a:graphic>
          <a:graphicData uri="http://schemas.openxmlformats.org/drawingml/2006/table">
            <a:tbl>
              <a:tblPr/>
              <a:tblGrid>
                <a:gridCol w="1800360"/>
                <a:gridCol w="6624360"/>
              </a:tblGrid>
              <a:tr h="510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新しい消費者に不足しているも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たいことをする時間がないという不満を常に抱えてい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集中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分にかかわりがないと判断すると、即座に関心が他のものへ移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信頼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ーカー、小売業者、サービス業者をハナから信用していな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95280" y="2924280"/>
          <a:ext cx="8424720" cy="3313080"/>
        </p:xfrm>
        <a:graphic>
          <a:graphicData uri="http://schemas.openxmlformats.org/drawingml/2006/table">
            <a:tbl>
              <a:tblPr/>
              <a:tblGrid>
                <a:gridCol w="1800360"/>
                <a:gridCol w="6624360"/>
              </a:tblGrid>
              <a:tr h="510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新しい消費者の特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人主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足並みを揃えた群れで動くことはなく、一人または少人数のグループで動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関与の分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関心のあるものとないものが２極化。探索行動も極端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立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強引な売込みを嫌い、従来の考え方には牙をむき、対話への参加を求め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情報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関与度の高いものには、スペックの調査を行い、価格を比べ、記載に偽りがないか確認し、選択肢を検討する。核心をついた質問を投げかけ、法的権利を行使する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物志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魅力品質と当たり前品質を区別して、魅力品質を求める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3708360" y="6308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『ソウル・オブ・ニュー・コンシューマー』</a:t>
            </a:r>
            <a:br>
              <a:rPr sz="900"/>
            </a:b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（デービッド・ルイス、ダレン・ブリッジャー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01:01:15Z</dcterms:created>
  <dc:creator>simfarm</dc:creator>
  <dc:description/>
  <dc:language>en-US</dc:language>
  <cp:lastModifiedBy> </cp:lastModifiedBy>
  <dcterms:modified xsi:type="dcterms:W3CDTF">2007-08-27T08:22:53Z</dcterms:modified>
  <cp:revision>15</cp:revision>
  <dc:subject/>
  <dc:title>スライド 1</dc:title>
</cp:coreProperties>
</file>