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9C43-94B1-45EB-BDA9-631D502A3D9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前半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つは、これこれこういうことから結果が導き出されるといった概念図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絵柄は必ずしこの通りでなくと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す。例えば上記の場合は、それぞれのブロックを円柱にしていただくですとか・・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色味、文字のバランス等、ご調整いただければ幸い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B04-EAEE-4291-90C1-9376A880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CDD-0668-4633-B0CC-C07FF21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C95-F3B1-418B-8727-8823CAC3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887-B828-47F2-A57D-AC271A89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3E6-9F08-47F0-8E08-EE78275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6F4-2A96-4953-976A-DB356E3B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4F4-D678-446F-924D-3F643DE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62A-CF8A-489F-BCC5-4348553F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62E-9339-4D18-ABD6-2ECD3A81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37C-775A-428A-82BB-C2D3A14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554-57F6-4985-B3F1-CA61C48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92D-7BFB-4DB8-80E0-96823835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943F-7293-4F40-BDE7-94FA69F0D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028880"/>
            <a:ext cx="3373560" cy="3078000"/>
          </a:xfrm>
          <a:prstGeom prst="rect">
            <a:avLst/>
          </a:prstGeom>
          <a:solidFill>
            <a:srgbClr val="8a6619"/>
          </a:solidFill>
          <a:ln w="0">
            <a:noFill/>
          </a:ln>
          <a:effectLst>
            <a:outerShdw dist="53966" dir="2700000" blurRad="0" rotWithShape="0">
              <a:srgbClr val="241b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26040" y="1028880"/>
            <a:ext cx="3484440" cy="3078000"/>
          </a:xfrm>
          <a:prstGeom prst="rect">
            <a:avLst/>
          </a:prstGeom>
          <a:solidFill>
            <a:srgbClr val="83348e"/>
          </a:solidFill>
          <a:ln w="0">
            <a:noFill/>
          </a:ln>
          <a:effectLst>
            <a:outerShdw dist="53966" dir="2700000" blurRad="0" rotWithShape="0">
              <a:srgbClr val="deb5e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3000" y="2071800"/>
            <a:ext cx="2163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27320" y="178632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roduct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製品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19760" y="178632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Customer Value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（顧客価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3000" y="2592360"/>
            <a:ext cx="2163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27320" y="230688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rice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価格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9760" y="230688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Customer Cost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（顧客コスト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83000" y="3123360"/>
            <a:ext cx="21636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27320" y="284040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lace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流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19760" y="284040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Customer Convenience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（利便性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1239840"/>
            <a:ext cx="2511360" cy="393840"/>
          </a:xfrm>
          <a:prstGeom prst="rect">
            <a:avLst/>
          </a:prstGeom>
          <a:solidFill>
            <a:srgbClr val="d39d2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M 中ゴシック BBB"/>
                <a:ea typeface="HGP創英角ｺﾞｼｯｸUB"/>
              </a:rPr>
              <a:t>マッカーシーの４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239840"/>
            <a:ext cx="2660400" cy="393840"/>
          </a:xfrm>
          <a:prstGeom prst="rect">
            <a:avLst/>
          </a:prstGeom>
          <a:solidFill>
            <a:srgbClr val="c171cb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M 中ゴシック BBB"/>
                <a:ea typeface="HGP創英角ｺﾞｼｯｸUB"/>
              </a:rPr>
              <a:t>ローターボーンの４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9000"/>
            <a:ext cx="8569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４Ｐ（＋４Ｐ）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v.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４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3000" y="3625920"/>
            <a:ext cx="2163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33440" y="338328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romotion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販促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46600" y="3393000"/>
            <a:ext cx="24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Customer Communication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ＭＳ ゴシック"/>
              </a:rPr>
              <a:t>（コミュニケーション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324320"/>
            <a:ext cx="3373560" cy="213372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33440" y="434232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olitics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政策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3440" y="486288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ublic Opinion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世論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33440" y="539640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olicy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ポリシー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39920" y="593928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M 中ゴシック BBB"/>
              </a:rPr>
              <a:t>Pace</a:t>
            </a:r>
            <a:br>
              <a:rPr sz="1400"/>
            </a:br>
            <a:r>
              <a:rPr b="1" lang="zh-CN" sz="1400" spc="-1" strike="noStrike">
                <a:solidFill>
                  <a:srgbClr val="ffffff"/>
                </a:solidFill>
                <a:latin typeface="M 中ゴシック BBB"/>
                <a:ea typeface="M 中ゴシック BBB"/>
              </a:rPr>
              <a:t>（ペース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38400" y="4476600"/>
            <a:ext cx="88920" cy="905040"/>
          </a:xfrm>
          <a:custGeom>
            <a:avLst/>
            <a:gdLst>
              <a:gd name="textAreaLeft" fmla="*/ 0 w 88920"/>
              <a:gd name="textAreaRight" fmla="*/ 32040 w 88920"/>
              <a:gd name="textAreaTop" fmla="*/ 23400 h 905040"/>
              <a:gd name="textAreaBottom" fmla="*/ 881640 h 9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7040" y="4821120"/>
            <a:ext cx="6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コトラ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52560" y="5572080"/>
            <a:ext cx="3747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52560" y="6130800"/>
            <a:ext cx="3747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7040" y="5464080"/>
            <a:ext cx="8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フェイス</a:t>
            </a:r>
            <a:br>
              <a:rPr sz="800"/>
            </a:br>
            <a:r>
              <a:rPr b="0" lang="zh-CN" sz="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・ポップコー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7040" y="6022800"/>
            <a:ext cx="8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ラース</a:t>
            </a:r>
            <a:br>
              <a:rPr sz="800"/>
            </a:br>
            <a:r>
              <a:rPr b="0" lang="zh-CN" sz="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・トゥヴェーデ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9:26:18Z</dcterms:created>
  <dc:creator>cs</dc:creator>
  <dc:description/>
  <dc:language>en-US</dc:language>
  <cp:lastModifiedBy> </cp:lastModifiedBy>
  <dcterms:modified xsi:type="dcterms:W3CDTF">2007-09-07T09:54:03Z</dcterms:modified>
  <cp:revision>76</cp:revision>
  <dc:subject/>
  <dc:title>PowerPoint プレゼンテーション</dc:title>
</cp:coreProperties>
</file>